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642-99E7-4FA7-B9E9-253A1BC9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384-9FFD-4F65-8812-8C5EA3F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D41-5021-4758-AF44-5ECAFD40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82C-2379-432B-B67D-DFE95191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1DF-CCC4-414A-B9D7-4280C80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38A-4D9C-4EE4-B681-7C1EBC1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34F-CA3B-4757-A515-EC0BE38D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7C8-49C7-42EB-8D5F-0B0E8CCA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121-42E1-49C8-99DA-42CBE6A7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797-6EE5-4B87-B8C4-3561FDA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226-4BF7-4FC0-81D7-884C3FC1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29A-B07E-47CC-93FE-315284E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2C9-0343-41A8-B1BB-FA8180B6B14D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dnesday, February 0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isation and protection of the SW MUST be managed and controlled through out the whole development cyckle 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Incremental integration sequence (layer dependancies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CRUM approach (i.e. target for next release etc.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DB in BEI with Aries SVN 25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Workflow TBD in workshop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DL support 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Workareas/packages - TBC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IM/BM/CM approach - TBD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Current status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IM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8T14:53:46Z</dcterms:modified>
  <cp:revision>58</cp:revision>
  <dc:subject/>
  <dc:title>Jerry - DL</dc:title>
</cp:coreProperties>
</file>